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9A6-5BA7-462E-BF4D-F73E066C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6DA-9D43-40E6-8EB8-C26A0CFB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BE4-A5E1-4CEB-A622-AA11AB20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34E-F517-46EF-AAC0-51D59840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CEA1-971E-498B-A4ED-98F1FDBC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9D90-2F18-4C55-A11B-E4E4FC37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7087-EDB6-4012-9B7F-8C57A0CC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2720-B9FF-4B56-9E6B-4F9EB8E5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AFE6-702A-47E2-97CF-28E28E7D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B396-BC9D-4B93-A604-8765600E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B302-0FBB-443F-AB7E-D6B7AC95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958D-DB41-458F-ABC1-83F1B0E1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013A-9ACC-454F-A0E2-04AA18D6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D9BB-2927-4274-BBCE-6A412F2A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7E33-57F1-4014-A8F5-F5EA2D3C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A526-D3B3-45C5-94C1-05FDA0A8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103C-54E6-4BB7-B547-850FB4C5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A653-1E24-4B75-93BE-D4C6AE93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6888-3A7E-442B-B65A-23F551FF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5A0-B9BB-4985-AECD-3DB78AEC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88B-46A5-4A0E-A829-68722DFC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5F8-166D-4D95-B61C-2196604E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0C46-85CC-431A-843D-BA05F634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427-BDEB-4E21-91DC-282E6D3B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7E73-A602-40BB-9C38-5B90642F3E1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FEA0-0BF6-41A2-A462-2D109E421DA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Garamond"/>
              </a:rPr>
              <a:t>A Remnant Shall Retur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rter 8  Lesson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s 27-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029200" y="4267080"/>
            <a:ext cx="990720" cy="7621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029200" y="4191120"/>
            <a:ext cx="10666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049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erritory Controlled By The Babylon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76520" y="4571640"/>
            <a:ext cx="33526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1028200">
            <a:off x="2666880" y="4419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p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66880" y="457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70 Years of Cap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647712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3840" y="1484280"/>
            <a:ext cx="29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eremiah; La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zek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88416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800" y="3808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Assyrian Empire Had Been Unsuccessful In Taking Jud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3962520"/>
            <a:ext cx="1828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syria took charge of Israel by 721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429000" y="40384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828800" y="30492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ice The Various Empires and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1143000"/>
            <a:ext cx="68580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419720"/>
            <a:ext cx="762120" cy="5331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1905120"/>
            <a:ext cx="1371600" cy="1066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62485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bylonian Empire Would Not Survive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xcerpts from the Book of Ezekiel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appeared to Ezekiel in vivid visions, telling him what he wanted the people to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had four primary objectives for Ezekiel to accomplis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ffff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troy any hope that the yoke of Babylon might be broken, and that exiles could soon go back h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ffff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ent God’s case against Israel showing them why they had been taken into cap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ffff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d sought to move His people to repentance by convicting them of their s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ffff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d wanted to offer His people hope, to encourage them to turn to Him and renew their efforts to serve H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Call of Ezekiel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zekiel 1:1-3:27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zekiel dwelt among the captives by the river Chebar in the land of Baby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a 30-year old priest from Ju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was about to give him an express call to serve as a prophet to His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fourth month of the fifth year of his captivity, as he stood by the river, the heavens were opened and he saw visions of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96080" cy="11397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Vision as Ezekiel Describes It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zekiel 1:1-28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 storm cloud approaching with fire flashing conti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ud was a glow as of metal heated in the fur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of the midst of the cloud there came four living cr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iving cr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d the likeness of a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one had four faces and four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ir legs and feet were stra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 faces – man, lion, ox, ea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had a wheel beside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1143000"/>
          </a:xfrm>
          <a:prstGeom prst="rect">
            <a:avLst/>
          </a:prstGeom>
          <a:solidFill>
            <a:srgbClr val="006600">
              <a:alpha val="98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Vision as Ezekiel Describes It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zekiel 1:1-28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the head of living creatures was a firmament like ice or crystal to look up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ve the firmament was the likeness of a throne with the appearance of a sapph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on the throne was the likeness of a man, from the waist up, He looked like a red hot metal in a glowing fire; from the waist down it looked like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as a brightness that shone around Him, as the appearance of a rainbow on a rain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as the appearance of the glory of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8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God gives Ezekiel his Commission to Prophes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zekiel 2:1-3:27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tells Ezekiel;  “Son of man, I am sending you to the children of Israel, whether they will hear you or no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hard-headed, a rebellious house – yet they will know a prophet has been among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be afraid of them or their words, and do not be lik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your mouth and eat what I give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and gave Ezekiel a scroll and when he spread it out he saw within and without were lamentations, mourning, and w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98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God gives Ezekiel his Commission to Prophes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zekiel 2:1-3:27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tells Ezekiel, “Son of man, eat this roll, and go, speak to the house of Israel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zekiel ate the scroll, and it was sweet as honey in his m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continued:  “Go to the house of Israel and speak My words unto th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ve a hard head and a stiff hea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I have made your head harder than theirs, I have made your head harder than flint, so be not afraid of their look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God gives Ezekiel his Commission to Prophes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zekiel 2:1-3:27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irit lifted up Ezekiel and transported him, he went in bitterness, in agitation of spirit, and the hand of the Lord was strong upon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came to the captives at Telabib, by the river Chebar, and the prophet sat there and overwhelmed for seven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7 days, God tells Ezekiel, “When I say to the wicked, ‘You shall die,’ and you fail to warn him, he will surely die in his iniquity, but I will hold you responsible for his blood.  But if he does not listen, he shall die in his sin, but you will save yoursel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98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God gives Ezekiel his Commission to Prophes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zekiel 2:1-3:27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tells Ezekiel, “go to the plain and I will talk with you the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ut yourself up within your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be confined with ropes so you cannot go out among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make your tongue stick to the roof of your mouth so you will be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as probably figurative language telling Ezekiel not to go constantly on his own reproving the people, but only when God gave him a special rev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9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98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98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98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98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03:31:35Z</dcterms:created>
  <dc:creator>Terry W. Benton</dc:creator>
  <dc:description/>
  <dc:language>en-US</dc:language>
  <cp:lastModifiedBy>Frank D Vines</cp:lastModifiedBy>
  <dcterms:modified xsi:type="dcterms:W3CDTF">2007-02-01T15:55:19Z</dcterms:modified>
  <cp:revision>55</cp:revision>
  <dc:subject/>
  <dc:title>A Remnant Shall Return</dc:title>
</cp:coreProperties>
</file>